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5A02D-5751-41C2-B6AA-9A81C26774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28078-E90C-4EA0-B337-6336CA82FD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996CB-A420-4065-B74D-5624400942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772ED-A4B6-4516-8B83-5AB2D90B76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4CED1-5B75-473D-BC2B-78D3A4CECA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460D5-BFFC-4A76-9514-6B926248EB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C450B-7208-4B98-ACA8-76095F23C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ACFDD-13AA-45CC-921B-CAE03FE449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36095-46DD-455A-9DF5-65F162D746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C6105-7EF2-496B-A1D6-338C3A07F6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4008B-E70C-40E5-B8CB-1258052545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CE806-726C-4CA1-A6CE-1789F38A09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437C4-8348-49A7-9FF1-C68A664148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91C4B-E8DA-42CB-A0CD-6A4156E35E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60B9C-27DB-4F5E-B53B-87A9119CA3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7067A-C451-4251-8647-50D015CB0B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25455-4AF2-415F-A23A-B26453947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A1529-DBDE-4B47-8458-C3E1216E74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70440-7E33-4D15-A63C-C52398E15E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9280D-819B-4639-9F7B-796932FCE7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51B88-967D-4C1E-9C8D-9361AB90CE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804B5-E360-4543-9A89-E4BB5D42F2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FF12E-0DFD-41EB-B9DF-7C73B2DA60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C6334-91B6-43BD-A788-711BF9545F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F874C-8EDD-4331-91B7-AE8C2783A6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678D6-EDA2-48EE-846B-0C60468A1C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BC1D-C1CC-4108-A182-D33B3C6EB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F8AB-76C9-4C47-9916-EF807997C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2DC7-5C6A-4E7B-8CBE-E3526D9C5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73FF-D907-4E6D-B6B9-D67524D16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87DC-6705-46BA-A1FC-053BFFA3B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25947-90FA-4295-81E3-B6DA64291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823EF-E9E2-45ED-8C38-BBF9F49D4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7C33D-1D9F-4A0C-B7A0-CE95ABF54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C74EE-B20F-497D-926B-2BEB8EC5C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F9150-F321-4EDC-ABD9-30F30DA0C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0DFE-4AB0-4DF2-BDFC-FCB29F639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26E9A-0B01-4377-817A-39D572E8F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C8E55-0EF9-46B7-8593-640DD596D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DBE7A-AA2C-4E4C-9681-C1E79071A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1999A-872E-4000-A7D5-1A7F407AC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DAFDC-C917-4067-8595-8759777BF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1549A-11C9-47C0-8AAF-52753462C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F45B4-133F-46EE-B88E-BF0B50596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2620-2157-49B7-91FE-78FB43F98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9974-5908-4D63-B3DE-1CF51D7B0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1B21-6CF2-4A83-B2BD-44E742039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4257-DE06-4E58-92DE-EB24478EC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57DA-E818-4029-ADE5-078C2D10A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093C-166D-4AF6-AA96-C9C306232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2B6E0-DE2F-404F-B138-AEE2BD53C8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7013A0B5-76BD-4C49-B09D-466A805F0582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C1D89337-3AE8-44EF-9C57-11EDEAD4F570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6E69FFE8-C71D-4F78-ADEC-AF8FCB2BCBFA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C6A65-D6B3-456F-B11F-866BA28EDE9F}" type="slidenum">
              <a:rPr b="0" lang="en-Z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234936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0" y="1527120"/>
            <a:ext cx="9121680" cy="31258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Contact List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561960" y="1125360"/>
            <a:ext cx="753912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ontact Trac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108000" y="3429000"/>
            <a:ext cx="8950320" cy="2665440"/>
          </a:xfrm>
          <a:prstGeom prst="rect">
            <a:avLst/>
          </a:prstGeom>
          <a:ln w="19080">
            <a:solidFill>
              <a:srgbClr val="1e7fb8"/>
            </a:solidFill>
            <a:miter/>
          </a:ln>
        </p:spPr>
      </p:pic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100080" y="1413000"/>
            <a:ext cx="8950320" cy="16272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108000" y="981000"/>
            <a:ext cx="9144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Paper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08000" y="2975040"/>
            <a:ext cx="914400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Electronic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 how it looks like in current Epi Info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1887480" y="1206360"/>
            <a:ext cx="506088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1266840" y="1125360"/>
            <a:ext cx="5813280" cy="49975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1488960" y="1093680"/>
            <a:ext cx="539460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673280" y="1119240"/>
            <a:ext cx="541980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2297160" y="1125360"/>
            <a:ext cx="429084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943280" y="1111320"/>
            <a:ext cx="457344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1838160" y="1125360"/>
            <a:ext cx="4770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General objectiv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10920" y="1988640"/>
            <a:ext cx="799308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his presentation introduces the goals of data management during an outbreak of Ebola virus disease (EVD) and some of the tools that can be used for data col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425520" y="1265400"/>
            <a:ext cx="810720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Data Management</a:t>
            </a:r>
            <a:endParaRPr b="1" lang="en-US" sz="4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08000" y="1197000"/>
            <a:ext cx="90360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Paper verification &amp; validation of filled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ing daily feedback to data collectors and teams in the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Entering data in the database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ning the data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Daily sharing of data with the central/sub-regional/regional level coordination body and 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ing required outputs that help monitor the evolution of the epide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c Curv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aily/Weekly trend graph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ge and sex distribution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ps of cases and deaths by location, district or province; specific locations of points of interest such as treatment centers, areas/places with high population density like mines, schools, churches etc. could be shown as we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isk factor analyses;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000"/>
            </a:b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000" spc="-1" strike="noStrike">
                <a:solidFill>
                  <a:srgbClr val="002060"/>
                </a:solidFill>
                <a:latin typeface="Arial"/>
              </a:rPr>
              <a:t>Epicurve by week of onset, December 2013 to 30 July 2014 (n=1406)</a:t>
            </a:r>
            <a:endParaRPr b="1" lang="en-US" sz="20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282600" y="1109520"/>
            <a:ext cx="839304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361800" y="1125360"/>
            <a:ext cx="8666280" cy="50151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CA" sz="2800" spc="-1" strike="noStrike">
                <a:solidFill>
                  <a:srgbClr val="002060"/>
                </a:solidFill>
                <a:latin typeface="Arial"/>
              </a:rPr>
              <a:t>Epidemic Curve (EVD Guinea, Weekly)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  <a:ea typeface="Arial"/>
              </a:rPr>
              <a:t>Sample Monitoring Outputs:</a:t>
            </a:r>
            <a:br>
              <a:rPr sz="4000"/>
            </a:br>
            <a:r>
              <a:rPr b="1" lang="en-GB" sz="2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en-CA" sz="2600" spc="-1" strike="noStrike">
                <a:solidFill>
                  <a:srgbClr val="002060"/>
                </a:solidFill>
                <a:latin typeface="Arial"/>
                <a:ea typeface="Arial"/>
              </a:rPr>
              <a:t>Age, sex distribution of cases and deaths (EVD Guinea)</a:t>
            </a:r>
            <a:endParaRPr b="1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6913440" cy="500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4000"/>
            </a:b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3200" spc="-1" strike="noStrike">
                <a:solidFill>
                  <a:srgbClr val="002060"/>
                </a:solidFill>
                <a:latin typeface="Arial"/>
              </a:rPr>
              <a:t>Maps of cases and deaths by location</a:t>
            </a: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324000" y="1127160"/>
            <a:ext cx="82803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min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5" name="Picture 2" descr="Picture1"/>
          <p:cNvPicPr/>
          <p:nvPr/>
        </p:nvPicPr>
        <p:blipFill>
          <a:blip r:embed="rId1"/>
          <a:stretch/>
        </p:blipFill>
        <p:spPr>
          <a:xfrm>
            <a:off x="1569960" y="1106640"/>
            <a:ext cx="5881680" cy="50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400"/>
            </a:b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treatment centers and laboratori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7" name="Picture 2" descr="Picture2"/>
          <p:cNvPicPr/>
          <p:nvPr/>
        </p:nvPicPr>
        <p:blipFill>
          <a:blip r:embed="rId1"/>
          <a:stretch/>
        </p:blipFill>
        <p:spPr>
          <a:xfrm>
            <a:off x="1584360" y="1103400"/>
            <a:ext cx="586728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Learning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55280" y="1514520"/>
            <a:ext cx="777708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lain the data management objectives during an outbreak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cribe the main types of data collection tools and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view sample monitoring out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Management objectives during EVD outbreak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78508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ensure efficient management of EV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ensure timely capture in the system of investigated cas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cases (suspected, probable or confirmed) isolation, management and dischar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that all cases contacts are followed up daily for 21 days in order to identify early EVD symptoms for early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daily the magnitude (persons (sex, age, health workers etc.) infected, time and place)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procurement and supplies management in order to avoid stocko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Use daily analyses as evidence to take timely required actions for the control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436680" y="1270080"/>
            <a:ext cx="85993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1: Patient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2: Clinical Sig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3: Hospitalization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4: Epidemiological Risk Factors an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5: Clinical Specimens and Labora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6: Patient Outcome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95400" y="1436760"/>
            <a:ext cx="886932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1174680"/>
            <a:ext cx="90345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5375520" cy="50245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4:47Z</dcterms:modified>
  <cp:revision>181</cp:revision>
  <dc:subject/>
  <dc:title>DPC Training and Technical Update</dc:title>
</cp:coreProperties>
</file>